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522B-4663-4120-B197-3647E5E5894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of glucose powder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tarchdextrinadhesives.com/glucose-powder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CA87-1EC9-4514-A54D-DA0891A8000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" spc="-1" strike="noStrike">
                <a:solidFill>
                  <a:srgbClr val="000000"/>
                </a:solidFill>
                <a:latin typeface="Calibri"/>
              </a:rPr>
              <a:t>http://www.science.smith.edu/departments/Biology/Bio231/glycolysis.html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DD99-173C-439A-96C8-980FB9A4D4D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ylation: glucose --&gt; glucose-6-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merization: G6P --&gt; fructose 6-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ylation F6P --&gt; fructose 1,6-bi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angelfire.com/sc3/toxchick/biolchem/biolchem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rpi.edu/dept/bcbp/molbiochem/MBWeb/mb1/part2/glycolysi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cnx.org/content/m44432/latest/?collection=col11448/1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F0B-E9C5-4C50-A648-FDB33F22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CFF-B70A-474D-BDDB-F9F02896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5EC-E60B-42C5-BD95-8AF3191D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B0C-D99B-4F35-B17C-CE09F320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B86-22AC-4045-B57C-45063883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637-E4D2-412F-89EC-8D01A07A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37E-D185-48FF-82B6-0012BF91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F03-DC26-4692-A29E-D2015CDF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643-B09C-4552-85C2-8A3FDCDC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340-85FA-4453-B6A6-5E3883F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8A0-04AB-45DA-B7F5-69D56D32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522-3D80-4F33-8547-BB0F4E1D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E6AA-1104-4599-97B1-959C9B95BC5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erobic Respiration: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P-210-glycolysis"/>
          <p:cNvPicPr/>
          <p:nvPr/>
        </p:nvPicPr>
        <p:blipFill>
          <a:blip r:embed="rId1"/>
          <a:stretch/>
        </p:blipFill>
        <p:spPr>
          <a:xfrm>
            <a:off x="2819520" y="152280"/>
            <a:ext cx="3605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lysis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really like this animation, it clearly shows the intermediates &amp; the energy transf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http://www.science.smith.edu/departments/Biology/Bio231/glycolysis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 (simplifie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highered.mcgraw-hill.com/sites/0072507470/student_view0/chapter25/animation__how_glycolysis_work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Y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NAD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glucos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olecules of ATP ar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olecules of ATP are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net yield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glucos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+ 2 NA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 ADP + 2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yruvate + 2 NADH +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 quiz:  http://www.zerobio.com/biofax12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almost all living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aerob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age of aerobic cellular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 of 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enzyme-catalyzed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carbon glucose is split into two 3-carbon pyruvate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energy gain of 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A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reduced to NAD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GlycolXX"/>
          <p:cNvPicPr/>
          <p:nvPr/>
        </p:nvPicPr>
        <p:blipFill>
          <a:blip r:embed="rId1"/>
          <a:stretch/>
        </p:blipFill>
        <p:spPr>
          <a:xfrm>
            <a:off x="914400" y="1676520"/>
            <a:ext cx="72975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335772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lycolysis Overview</a:t>
            </a:r>
            <a:br>
              <a:rPr sz="4400"/>
            </a:br>
            <a:br>
              <a:rPr sz="900"/>
            </a:br>
            <a:br>
              <a:rPr sz="9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home.jam.rr.com/cjohnson1/glycolysis2.jpg"/>
          <p:cNvPicPr/>
          <p:nvPr/>
        </p:nvPicPr>
        <p:blipFill>
          <a:blip r:embed="rId1"/>
          <a:stretch/>
        </p:blipFill>
        <p:spPr>
          <a:xfrm>
            <a:off x="40719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s of Glyc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investment 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xns #1-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(rxns #4-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pay-off 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xns #6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nvestment (#1-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undergoes a phosphorylation, an isomerization, and a second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TP ar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4" descr="glycolysis1to3"/>
          <p:cNvPicPr/>
          <p:nvPr/>
        </p:nvPicPr>
        <p:blipFill>
          <a:blip r:embed="rId1"/>
          <a:stretch/>
        </p:blipFill>
        <p:spPr>
          <a:xfrm>
            <a:off x="4349880" y="1143000"/>
            <a:ext cx="44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#4-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s into two 3-carbon molecules:  G3P &amp; DH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HAP isomerizes into G3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aldolase"/>
          <p:cNvPicPr/>
          <p:nvPr/>
        </p:nvPicPr>
        <p:blipFill>
          <a:blip r:embed="rId1"/>
          <a:stretch/>
        </p:blipFill>
        <p:spPr>
          <a:xfrm>
            <a:off x="4114800" y="2725560"/>
            <a:ext cx="46483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pay-off (#6-1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Figure_07_02_02"/>
          <p:cNvPicPr/>
          <p:nvPr/>
        </p:nvPicPr>
        <p:blipFill>
          <a:blip r:embed="rId1"/>
          <a:stretch/>
        </p:blipFill>
        <p:spPr>
          <a:xfrm>
            <a:off x="457200" y="2317680"/>
            <a:ext cx="83818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23:28:04Z</dcterms:created>
  <dc:creator>jen</dc:creator>
  <dc:description/>
  <dc:language>en-US</dc:language>
  <cp:lastModifiedBy>rubina khan</cp:lastModifiedBy>
  <dcterms:modified xsi:type="dcterms:W3CDTF">2017-05-31T13:52:58Z</dcterms:modified>
  <cp:revision>151</cp:revision>
  <dc:subject/>
  <dc:title>Slide 1</dc:title>
</cp:coreProperties>
</file>